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0991192"/>
        <c:axId val="79151262"/>
      </c:barChart>
      <c:catAx>
        <c:axId val="1099119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151262"/>
        <c:crosses val="autoZero"/>
        <c:auto val="1"/>
        <c:lblAlgn val="ctr"/>
        <c:lblOffset val="100"/>
        <c:noMultiLvlLbl val="0"/>
      </c:catAx>
      <c:valAx>
        <c:axId val="7915126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99119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7963C-8EE4-48CE-AC6D-31F3B4655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09125-EBAE-4F01-A0CD-364A54F74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2B134-C064-43D5-9B6A-D06E278FB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2F7E8-5AE6-41C6-A2B4-420124DD8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78A83-45AD-4A95-B74F-52C485F81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F2594-00DC-4842-A19E-8B0BE9E05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EF5FE-C95E-41A1-8362-93F17C0DA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55521-EE49-4E6E-A09C-575AD4840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DF3F8-4EDA-4CD8-9322-C0CD8F195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90A32-E2D1-4F93-ABA6-B9E265587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64695-D938-46E0-B626-63FCF7EB0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B7D29-CD93-4F68-BDB5-FB7BAF177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BB1D85-BF17-46D6-B5D0-C4C384ED683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