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02494"/>
        <c:axId val="12861230"/>
      </c:barChart>
      <c:catAx>
        <c:axId val="80602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61230"/>
        <c:crosses val="autoZero"/>
        <c:auto val="1"/>
        <c:lblAlgn val="ctr"/>
        <c:lblOffset val="100"/>
        <c:noMultiLvlLbl val="0"/>
      </c:catAx>
      <c:valAx>
        <c:axId val="12861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02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080-C58C-48BF-B9FF-2B4F5F9E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E5F5-2DEE-4B6F-965E-11346A0D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ECEE-8A23-45DA-B3EF-F20DE672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3CC-39F6-47E9-9811-1751CAC6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DC0-72DB-4DA0-AB0C-B7CCE824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C6DC-E677-490A-BD86-EBDFF0B3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EA4-6ACF-46D8-BFF3-116AA472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390-2611-4C2B-B54B-B2FB6915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7CD-749B-47F0-8472-98D6271C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E76-D4B4-4FB8-A861-6ABDAB60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333-D1DC-47D5-BC27-B342E1F1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EAF-BCBA-4A43-95F9-6F09BFD5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CF58A-B077-403E-BFE7-B9DA6B83CC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